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71643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1640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0500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4059000" y="0"/>
            <a:ext cx="310356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218960" y="708120"/>
            <a:ext cx="4725720" cy="35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55440" y="4489200"/>
            <a:ext cx="5251320" cy="4251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975880"/>
            <a:ext cx="310500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4059000" y="8975880"/>
            <a:ext cx="310356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8F6E-D7D5-437F-8593-7CD965938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59360" y="8975880"/>
            <a:ext cx="31035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2686-3A6A-43C4-9C67-68702B7904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20760" y="708120"/>
            <a:ext cx="4726080" cy="3543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55440" y="4489200"/>
            <a:ext cx="525132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59360" y="8975880"/>
            <a:ext cx="31035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1C7B-F62D-4DC2-A75C-E6D6867F0F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20760" y="708120"/>
            <a:ext cx="4726080" cy="3543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55440" y="4489200"/>
            <a:ext cx="525132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14"/>
            </a:gs>
            <a:gs pos="100000">
              <a:srgbClr val="0a008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Line 8"/>
          <p:cNvSpPr/>
          <p:nvPr/>
        </p:nvSpPr>
        <p:spPr>
          <a:xfrm>
            <a:off x="-9360" y="6172200"/>
            <a:ext cx="9144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Picture 9" descr="nlm1photo"/>
          <p:cNvPicPr/>
          <p:nvPr/>
        </p:nvPicPr>
        <p:blipFill>
          <a:blip r:embed="rId2"/>
          <a:stretch/>
        </p:blipFill>
        <p:spPr>
          <a:xfrm>
            <a:off x="228600" y="5931000"/>
            <a:ext cx="1809720" cy="850680"/>
          </a:xfrm>
          <a:prstGeom prst="rect">
            <a:avLst/>
          </a:prstGeom>
          <a:ln w="0">
            <a:noFill/>
          </a:ln>
        </p:spPr>
      </p:pic>
      <p:sp>
        <p:nvSpPr>
          <p:cNvPr id="4" name="Text Box 10"/>
          <p:cNvSpPr/>
          <p:nvPr/>
        </p:nvSpPr>
        <p:spPr>
          <a:xfrm>
            <a:off x="2120760" y="6327720"/>
            <a:ext cx="573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99"/>
                </a:solidFill>
                <a:latin typeface="Felix Titling"/>
              </a:rPr>
              <a:t>U. S. National Library of Medici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1" descr="T_hhs_logo_2-inv"/>
          <p:cNvPicPr/>
          <p:nvPr/>
        </p:nvPicPr>
        <p:blipFill>
          <a:blip r:embed="rId3"/>
          <a:stretch/>
        </p:blipFill>
        <p:spPr>
          <a:xfrm>
            <a:off x="7775640" y="6243480"/>
            <a:ext cx="457200" cy="5479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T_nih_logo_2"/>
          <p:cNvPicPr/>
          <p:nvPr/>
        </p:nvPicPr>
        <p:blipFill>
          <a:blip r:embed="rId4"/>
          <a:stretch/>
        </p:blipFill>
        <p:spPr>
          <a:xfrm>
            <a:off x="8353440" y="6275520"/>
            <a:ext cx="64944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14"/>
            </a:gs>
            <a:gs pos="100000">
              <a:srgbClr val="0a008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14"/>
            </a:gs>
            <a:gs pos="100000">
              <a:srgbClr val="0a008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8"/>
          <p:cNvSpPr/>
          <p:nvPr/>
        </p:nvSpPr>
        <p:spPr>
          <a:xfrm>
            <a:off x="-9360" y="6172200"/>
            <a:ext cx="9144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Picture 9" descr="nlm1photo"/>
          <p:cNvPicPr/>
          <p:nvPr/>
        </p:nvPicPr>
        <p:blipFill>
          <a:blip r:embed="rId2"/>
          <a:stretch/>
        </p:blipFill>
        <p:spPr>
          <a:xfrm>
            <a:off x="228600" y="5931000"/>
            <a:ext cx="1809720" cy="850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>
            <a:off x="2120760" y="6327720"/>
            <a:ext cx="573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99"/>
                </a:solidFill>
                <a:latin typeface="Felix Titling"/>
              </a:rPr>
              <a:t>U. S. National Library of Medici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11" descr="T_hhs_logo_2-inv"/>
          <p:cNvPicPr/>
          <p:nvPr/>
        </p:nvPicPr>
        <p:blipFill>
          <a:blip r:embed="rId3"/>
          <a:stretch/>
        </p:blipFill>
        <p:spPr>
          <a:xfrm>
            <a:off x="7775640" y="6243480"/>
            <a:ext cx="457200" cy="547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T_nih_logo_2"/>
          <p:cNvPicPr/>
          <p:nvPr/>
        </p:nvPicPr>
        <p:blipFill>
          <a:blip r:embed="rId4"/>
          <a:stretch/>
        </p:blipFill>
        <p:spPr>
          <a:xfrm>
            <a:off x="8353440" y="6275520"/>
            <a:ext cx="649440" cy="484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5"/>
          <a:stretch/>
        </p:blipFill>
        <p:spPr>
          <a:xfrm>
            <a:off x="7696080" y="6218280"/>
            <a:ext cx="596880" cy="609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Current State of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aMap and MMTx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UMLS Web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an (Lan) R. Aron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er Hill Center/NLM/NI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an@nlm.nih.g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gust 20,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updated December 10, 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cent/Current MetaMap Develop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algorithm enhancements resulting in at least 3x speedup in MetaMap exec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Map is now 3-10 times faster than MMTx (200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rther technica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gration from Sun/Solaris to Linux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 to current Berkeley DB to prepare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gration from Quintus to SICStus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Map now detects negation (via NegE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Map 3D (colorized MetaMap outpu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aMap 3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6" name="Content Placeholder 3" descr="sampleI_3D.jpg"/>
          <p:cNvPicPr/>
          <p:nvPr/>
        </p:nvPicPr>
        <p:blipFill>
          <a:blip r:embed="rId1"/>
          <a:stretch/>
        </p:blipFill>
        <p:spPr>
          <a:xfrm>
            <a:off x="560520" y="990720"/>
            <a:ext cx="802296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ointers: Website and Contributo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an (Lan) R. Aronson (alan@nlm.nih.go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mes G. M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ie J. Ro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ç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is M. La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914400" y="1523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metamap.nlm.nih.g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torical 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ribution m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Map and MMTx* similar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Map and MMTx dif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 MetaMap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836640" y="510552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MTx – MetaMap Transf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istorical Backgroun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ams that map biomedical text to a thesaur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ARIT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vans et al., 199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PHIRE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Hersh et al., 199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taMap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(Aronson et al., 199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taphrase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uttle et al., 1998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MTx 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owledgeMap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enny et al., 200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grep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00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racteristics of MetaMap/MMT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guistic rig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xible partial matc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hasis on thoroughness rather than spe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aMap/MMTx Exampl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MID – 19529903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 –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Bile duct strictur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e to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cau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portal</a:t>
            </a:r>
            <a:br>
              <a:rPr sz="2800"/>
            </a:br>
            <a:br>
              <a:rPr sz="2800"/>
            </a:b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liopathy: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Treat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stag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portal-systemic shunt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bili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byp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1532880" y="266688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ricture of bile 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5263560" y="26668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u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6786720" y="2666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epa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1536480" y="403848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dministration proced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5022360" y="40384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5796720" y="4038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1381680" y="533412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rtasystemic sh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4833360" y="53341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ili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5873760" y="53341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yp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1523880" y="2671920"/>
            <a:ext cx="2719440" cy="457200"/>
          </a:xfrm>
          <a:prstGeom prst="rect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5229360" y="2671920"/>
            <a:ext cx="1220760" cy="457200"/>
          </a:xfrm>
          <a:prstGeom prst="rect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6781680" y="2671920"/>
            <a:ext cx="1140120" cy="457200"/>
          </a:xfrm>
          <a:prstGeom prst="rect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1523880" y="4038480"/>
            <a:ext cx="3305160" cy="457200"/>
          </a:xfrm>
          <a:prstGeom prst="rect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5018040" y="4038480"/>
            <a:ext cx="696960" cy="457200"/>
          </a:xfrm>
          <a:prstGeom prst="rect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5791320" y="4038480"/>
            <a:ext cx="838080" cy="457200"/>
          </a:xfrm>
          <a:prstGeom prst="rect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1371600" y="5334120"/>
            <a:ext cx="2562120" cy="457200"/>
          </a:xfrm>
          <a:prstGeom prst="rect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4829040" y="5338800"/>
            <a:ext cx="962280" cy="457200"/>
          </a:xfrm>
          <a:prstGeom prst="rect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5867280" y="5338800"/>
            <a:ext cx="1074960" cy="457200"/>
          </a:xfrm>
          <a:prstGeom prst="rect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aMap/MMTx Distribution Mod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0" name="Content Placeholder 3" descr="MetaMap_Portal_Page.bmp"/>
          <p:cNvPicPr/>
          <p:nvPr/>
        </p:nvPicPr>
        <p:blipFill>
          <a:blip r:embed="rId1"/>
          <a:stretch/>
        </p:blipFill>
        <p:spPr>
          <a:xfrm>
            <a:off x="1419120" y="838080"/>
            <a:ext cx="6305760" cy="49323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3217680" y="563868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ttp://metamap.nlm.nih.g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Content Placeholder 3" descr="MetaMap_Portal_Page.bmp"/>
          <p:cNvPicPr/>
          <p:nvPr/>
        </p:nvPicPr>
        <p:blipFill>
          <a:blip r:embed="rId1"/>
          <a:stretch/>
        </p:blipFill>
        <p:spPr>
          <a:xfrm>
            <a:off x="1419120" y="838080"/>
            <a:ext cx="6305760" cy="4932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aMap/MMTx Distribution Mod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3217680" y="563868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ttp://metamap.nlm.nih.g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166" name="Content Placeholder 6" descr="mm_avenues.jpg"/>
          <p:cNvPicPr/>
          <p:nvPr/>
        </p:nvPicPr>
        <p:blipFill>
          <a:blip r:embed="rId3"/>
          <a:stretch/>
        </p:blipFill>
        <p:spPr>
          <a:xfrm>
            <a:off x="152280" y="1295280"/>
            <a:ext cx="8818560" cy="439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aMap and MMTx Similariti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purpose: mapping biomedical text to concepts in the UMLS Metathesaur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basic algorith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kenization and parsing into phr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nt gen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didate retrie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didate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mapping con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aMap and MMTx Differences (1/2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ic det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all organization of the algorith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ke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casional differences, MetaMap’s generally prefer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ming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/C (MetaMa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(MMT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aMap and MMTx Differences (2/2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tform avail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Tx: Solaris, Linux, Windows, OS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Map: Solaris, Linux, Windows (soon)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 X (so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Map is 2-5 times faster than MMTx (as of 200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7:53:22Z</dcterms:created>
  <dc:creator>Lan Aronson</dc:creator>
  <dc:description/>
  <dc:language>en-US</dc:language>
  <cp:lastModifiedBy>lanaronson</cp:lastModifiedBy>
  <cp:lastPrinted>2004-04-01T18:39:58Z</cp:lastPrinted>
  <dcterms:modified xsi:type="dcterms:W3CDTF">2009-12-10T15:59:37Z</dcterms:modified>
  <cp:revision>581</cp:revision>
  <dc:subject/>
  <dc:title>Automated and Semi-automated Indexing</dc:title>
</cp:coreProperties>
</file>