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1640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4059000" y="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218960" y="708120"/>
            <a:ext cx="4725720" cy="354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975880"/>
            <a:ext cx="310500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4059000" y="8975880"/>
            <a:ext cx="3103560" cy="473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88E-5D57-4FED-8FE5-17807195B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59360" y="8975880"/>
            <a:ext cx="3103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AD8-D743-49A9-A897-2D8FE988D8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6080" cy="3543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59360" y="8975880"/>
            <a:ext cx="31035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4F5F-C994-4487-AA73-A206FE49A9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20760" y="708120"/>
            <a:ext cx="4726080" cy="3543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55440" y="4489200"/>
            <a:ext cx="525132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14"/>
            </a:gs>
            <a:gs pos="100000">
              <a:srgbClr val="0a0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Line 8"/>
          <p:cNvSpPr/>
          <p:nvPr/>
        </p:nvSpPr>
        <p:spPr>
          <a:xfrm>
            <a:off x="-9360" y="61722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Picture 9" descr="nlm1photo"/>
          <p:cNvPicPr/>
          <p:nvPr/>
        </p:nvPicPr>
        <p:blipFill>
          <a:blip r:embed="rId2"/>
          <a:stretch/>
        </p:blipFill>
        <p:spPr>
          <a:xfrm>
            <a:off x="228600" y="5931000"/>
            <a:ext cx="1809720" cy="85068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2120760" y="6327720"/>
            <a:ext cx="573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99"/>
                </a:solidFill>
                <a:latin typeface="Felix Titling"/>
              </a:rPr>
              <a:t>U. S. National Library of Medic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11" descr="T_hhs_logo_2-inv"/>
          <p:cNvPicPr/>
          <p:nvPr/>
        </p:nvPicPr>
        <p:blipFill>
          <a:blip r:embed="rId3"/>
          <a:stretch/>
        </p:blipFill>
        <p:spPr>
          <a:xfrm>
            <a:off x="7775640" y="6243480"/>
            <a:ext cx="457200" cy="5479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T_nih_logo_2"/>
          <p:cNvPicPr/>
          <p:nvPr/>
        </p:nvPicPr>
        <p:blipFill>
          <a:blip r:embed="rId4"/>
          <a:stretch/>
        </p:blipFill>
        <p:spPr>
          <a:xfrm>
            <a:off x="8353440" y="6275520"/>
            <a:ext cx="6494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14"/>
            </a:gs>
            <a:gs pos="100000">
              <a:srgbClr val="0a0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d14"/>
            </a:gs>
            <a:gs pos="100000">
              <a:srgbClr val="0a008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8"/>
          <p:cNvSpPr/>
          <p:nvPr/>
        </p:nvSpPr>
        <p:spPr>
          <a:xfrm>
            <a:off x="-9360" y="61722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9" descr="nlm1photo"/>
          <p:cNvPicPr/>
          <p:nvPr/>
        </p:nvPicPr>
        <p:blipFill>
          <a:blip r:embed="rId2"/>
          <a:stretch/>
        </p:blipFill>
        <p:spPr>
          <a:xfrm>
            <a:off x="228600" y="5931000"/>
            <a:ext cx="1809720" cy="850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2120760" y="6327720"/>
            <a:ext cx="573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99"/>
                </a:solidFill>
                <a:latin typeface="Felix Titling"/>
              </a:rPr>
              <a:t>U. S. National Library of Medici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11" descr="T_hhs_logo_2-inv"/>
          <p:cNvPicPr/>
          <p:nvPr/>
        </p:nvPicPr>
        <p:blipFill>
          <a:blip r:embed="rId3"/>
          <a:stretch/>
        </p:blipFill>
        <p:spPr>
          <a:xfrm>
            <a:off x="7775640" y="6243480"/>
            <a:ext cx="457200" cy="547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T_nih_logo_2"/>
          <p:cNvPicPr/>
          <p:nvPr/>
        </p:nvPicPr>
        <p:blipFill>
          <a:blip r:embed="rId4"/>
          <a:stretch/>
        </p:blipFill>
        <p:spPr>
          <a:xfrm>
            <a:off x="8353440" y="6275520"/>
            <a:ext cx="64944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7696080" y="6218280"/>
            <a:ext cx="596880" cy="60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urrent State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UMLS Web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 (Lan) R. Aron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ster Hill Center/NLM/NI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@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gust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updated December 10, 200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cent/Current MetaMap Develop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algorithm enhancements resulting in at least 3x speedup in MetaMap exec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ap is now 3-10 times faster than MMTx (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technical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ion from Sun/Solaris to Linux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 to current Berkeley DB to prepare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ration from Quintus to SICStus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now detects negation (via NegE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3D (colorized MetaMap outpu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3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Content Placeholder 3" descr="sampleI_3D.jpg"/>
          <p:cNvPicPr/>
          <p:nvPr/>
        </p:nvPicPr>
        <p:blipFill>
          <a:blip r:embed="rId1"/>
          <a:stretch/>
        </p:blipFill>
        <p:spPr>
          <a:xfrm>
            <a:off x="560520" y="990720"/>
            <a:ext cx="802296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ointers: Website and Contribu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n (Lan) R. Aronson (alan@nlm.nih.go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mes G. M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ie J. Ro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ç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is M. La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914400" y="1523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metamap.nlm.nih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torical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tribution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and MMTx* similar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aMap and MMTx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ent MetaMap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836640" y="510552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MTx – MetaMap Trans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istorical Backgroun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s that map biomedical text to a thesaur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ARIT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vans et al., 199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PHIR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Hersh et al., 199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etaMap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(Aronson et al., 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aphrase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uttle et al., 1998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MTx 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owledgeMap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enny et al., 200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grep (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2009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racteristics of MetaMap/MMT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guistic rig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exible partial matc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hasis on thoroughness rather than spe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/MMTx 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MID – 19529903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 –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Bile duct stricture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to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cau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y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portal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liopathy: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Treat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st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portal-systemic shunt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bili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00ffff"/>
                </a:solidFill>
                <a:uFillTx/>
                <a:latin typeface="Times New Roman"/>
              </a:rPr>
              <a:t>bypa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532880" y="266688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ricture of bile 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5263560" y="2666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u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6786720" y="2666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epa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1536480" y="4038480"/>
            <a:ext cx="33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ministration 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5022360" y="4038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796720" y="4038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11"/>
          <p:cNvSpPr/>
          <p:nvPr/>
        </p:nvSpPr>
        <p:spPr>
          <a:xfrm>
            <a:off x="1381680" y="533412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rtasystemic sh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833360" y="53341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ili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5873760" y="53341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yp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523880" y="2671920"/>
            <a:ext cx="271944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5229360" y="2671920"/>
            <a:ext cx="12207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6781680" y="2671920"/>
            <a:ext cx="114012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523880" y="4038480"/>
            <a:ext cx="33051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5018040" y="4038480"/>
            <a:ext cx="6969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5791320" y="4038480"/>
            <a:ext cx="83808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1371600" y="5334120"/>
            <a:ext cx="256212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4829040" y="5338800"/>
            <a:ext cx="96228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5867280" y="5338800"/>
            <a:ext cx="1074960" cy="457200"/>
          </a:xfrm>
          <a:prstGeom prst="rect">
            <a:avLst/>
          </a:pr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/MMTx Distribution Mod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Content Placeholder 3" descr="MetaMap_Portal_Page.bmp"/>
          <p:cNvPicPr/>
          <p:nvPr/>
        </p:nvPicPr>
        <p:blipFill>
          <a:blip r:embed="rId1"/>
          <a:stretch/>
        </p:blipFill>
        <p:spPr>
          <a:xfrm>
            <a:off x="1419120" y="838080"/>
            <a:ext cx="6305760" cy="49323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3217680" y="5638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metamap.nlm.nih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Content Placeholder 3" descr="MetaMap_Portal_Page.bmp"/>
          <p:cNvPicPr/>
          <p:nvPr/>
        </p:nvPicPr>
        <p:blipFill>
          <a:blip r:embed="rId1"/>
          <a:stretch/>
        </p:blipFill>
        <p:spPr>
          <a:xfrm>
            <a:off x="1419120" y="838080"/>
            <a:ext cx="6305760" cy="4932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/MMTx Distribution Mod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3217680" y="5638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ttp://metamap.nlm.nih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772400" cy="4572000"/>
          </a:xfrm>
          <a:prstGeom prst="rect">
            <a:avLst/>
          </a:prstGeom>
          <a:ln w="0">
            <a:noFill/>
          </a:ln>
        </p:spPr>
      </p:pic>
      <p:pic>
        <p:nvPicPr>
          <p:cNvPr id="166" name="Content Placeholder 6" descr="mm_avenues.jpg"/>
          <p:cNvPicPr/>
          <p:nvPr/>
        </p:nvPicPr>
        <p:blipFill>
          <a:blip r:embed="rId3"/>
          <a:stretch/>
        </p:blipFill>
        <p:spPr>
          <a:xfrm>
            <a:off x="152280" y="1295280"/>
            <a:ext cx="8818560" cy="43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 Similariti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purpose: mapping biomedical text to concepts in the UMLS Metathesau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e basic algorith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kenization and parsing into phr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ant gener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didate retrie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didate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mapping constr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 Differences (1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ic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all organization of the algorith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ke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asional differences, MetaMap’s generally prefer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ing 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/C (MetaMa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(MMT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aMap and MMTx Differences (2/2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tform avail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Tx: Solaris, Linux, Windows, OS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ap: Solaris, Linux, Windows (soon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S X (so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aMap is 2-5 times faster than MMTx (as of 200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7:53:22Z</dcterms:created>
  <dc:creator>Lan Aronson</dc:creator>
  <dc:description/>
  <dc:language>en-US</dc:language>
  <cp:lastModifiedBy>lanaronson</cp:lastModifiedBy>
  <cp:lastPrinted>2004-04-01T18:39:58Z</cp:lastPrinted>
  <dcterms:modified xsi:type="dcterms:W3CDTF">2009-12-10T15:59:37Z</dcterms:modified>
  <cp:revision>581</cp:revision>
  <dc:subject/>
  <dc:title>Automated and Semi-automated Indexing</dc:title>
</cp:coreProperties>
</file>